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1EB-8AC9-497A-BD5C-42701F74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5CD-2290-41DE-873E-E79820CD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BD9-FB18-46BF-AE03-DD9A6A87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3FA-774D-482C-837A-042CEB38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EE4-5C8F-4EC7-9AD5-8F64240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D6D-8C11-42D7-870D-D2EAAEFE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88-CD39-417D-B51A-ED51CFD2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CE7-D07D-442E-920E-79AD5E0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BDE-98FF-4B88-8E4D-BF74BAE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FC7-08CD-42C0-9255-CB08C02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B83-491D-42D9-8D8A-6AA1997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BF8-0DDA-487F-AA88-BFED1CE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3F9-15FF-4DCC-A608-9295E433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76280"/>
            <a:ext cx="38577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urniture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8098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233360"/>
            <a:ext cx="5715000" cy="43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83664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981000"/>
            <a:ext cx="1800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549360"/>
            <a:ext cx="1440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907920"/>
            <a:ext cx="730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2421000"/>
            <a:ext cx="1081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3372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id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200" y="3078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helf/sh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692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523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20560" y="111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1280" y="4716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up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93640" y="24876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1640" y="2708280"/>
            <a:ext cx="331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3240" y="1047600"/>
            <a:ext cx="4457520" cy="476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268280"/>
            <a:ext cx="172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292720" y="765000"/>
            <a:ext cx="71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80000" y="765000"/>
            <a:ext cx="158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7960" y="7873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cc"/>
                </a:solidFill>
                <a:latin typeface="comic"/>
              </a:rPr>
              <a:t>cur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268280"/>
            <a:ext cx="3024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70040" y="-3240"/>
            <a:ext cx="20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33cc"/>
                </a:solidFill>
                <a:latin typeface="comic"/>
              </a:rPr>
              <a:t>la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0:34:02Z</dcterms:created>
  <dc:creator>I.E.S. FEDERICO GARCIA LORCA</dc:creator>
  <dc:description/>
  <dc:language>en-US</dc:language>
  <cp:lastModifiedBy>rmi</cp:lastModifiedBy>
  <dcterms:modified xsi:type="dcterms:W3CDTF">2009-04-24T17:06:28Z</dcterms:modified>
  <cp:revision>3</cp:revision>
  <dc:subject/>
  <dc:title>Diapositiva 1</dc:title>
</cp:coreProperties>
</file>